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F508-832C-4657-BB43-CE4B1DD02F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E71E-D2CC-459F-86D6-F2401686FC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75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B10B-7565-4226-ACBB-4326DD343E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75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BFD9-585A-4379-9ECB-870B6793F8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75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1D3A-1086-4DE2-AA41-347230FD7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2723-9297-4401-9E2D-5AF2868F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9E02-81F5-4D2C-A0C3-154A927E1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60A7-F22B-4339-B40B-3ED7F34BC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9EE8B-1D58-4318-A7F9-485AAC3FD4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42D2D-AB97-48D8-AD1C-CA05C9EA35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8F813-21C6-400F-A808-A596611A47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E3EA9-FF95-4E9E-80E0-B165AC96F5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06465-A8F4-4CFD-89AA-70322B6BAC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9F0CF-A1A0-413B-91D3-3D6831BB04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5E117-2DB8-414B-A8B8-7C10716E96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C4CD-807C-4ECF-9F41-9E65FB01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88219-D63B-495B-89C1-E63783C7F6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9A7C4-F7CB-4575-B502-4FEC509E74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943D4-F1AB-4E0B-B60F-898CEA7216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71102-AE9C-4A66-B14A-E21FDFDE56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B4AAF-65FC-4951-BFDE-B0643C9693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11EC-6F61-40FA-BD3F-45EB4EC2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A182-9FD9-4836-B701-793A9763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47BF-EDD1-40F6-9EF0-8E389AC5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4E74-AE13-4AD8-8A97-F93ED608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0942-1C1D-4C40-8EC1-EDA47A78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8581-A9B9-4B21-B90B-FA68967B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915A-E9AD-4E46-857E-7DC65AD3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0E81-BAC0-4EA8-AAAB-8530B2B14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4CFB-AE79-45AA-AE03-B4CAACF0FA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72FC-66E0-4B53-A48F-B438189C42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-241200" y="-189000"/>
            <a:ext cx="9667800" cy="704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-166680" y="836640"/>
          <a:ext cx="9439200" cy="5843520"/>
        </p:xfrm>
        <a:graphic>
          <a:graphicData uri="http://schemas.openxmlformats.org/drawingml/2006/table">
            <a:tbl>
              <a:tblPr/>
              <a:tblGrid>
                <a:gridCol w="1055520"/>
                <a:gridCol w="892440"/>
                <a:gridCol w="1241280"/>
                <a:gridCol w="5018040"/>
                <a:gridCol w="1231920"/>
              </a:tblGrid>
              <a:tr h="99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Vi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7e5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Area of Foc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7e5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Success Metrics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* All success metrics to be completed by Spring ’08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7e5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Commitments to 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7e5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7e5"/>
                    </a:solidFill>
                  </a:tcPr>
                </a:tc>
              </a:tr>
              <a:tr h="92844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c0504d"/>
                          </a:solidFill>
                          <a:latin typeface="Verdana"/>
                        </a:rPr>
                        <a:t>Provide access to quality and efficient programs and services to ensure student succes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w enrollment by 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gressively market/outreach to prospective student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engthen high school collaboration by articulating &amp; developing programs to support students educational goal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 data on students from immigrant, low-income, and other underrepresented groups by August, 2007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let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rriculum and Progra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and curriculum &amp; programs by 10%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rease certificate/degree distance ed. courses by 25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velop non-credit/community ed. progra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view established timeline and conduct comprehensive program reviews in every academic discipline and student services area according to the prescribed timeline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eamline curriculum committee process by incorporating more electronic procedures, proactive workshops &amp; training on course outline development, and state regulation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ate plan to develop additional vocational /workforce programs, seek grants to support programs (i.e. SB 7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alyze and clearly define existing mini-certificate programs and link with student succes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 current distance education courses leading to a full certificate/degree program. Develop plans for expansion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view and revise campus technology plans and train faculty in distance education technology such as Web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let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rvi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rease degree completion /transfers by 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rease retention /completion rate 10%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 indent="-11448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crease students on probation by 10%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vide students with opportunities to engage in a vibrant and active campus life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ve current and develop new intervention programs designed to help students succeed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velop comprehensive Learning Resource Center to assist student need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ate 1 new transfer agreement and launch promotional campaign on transfer agreement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sure faculty and staff have accessible data tracking tool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let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Rectangle 28"/>
          <p:cNvSpPr/>
          <p:nvPr/>
        </p:nvSpPr>
        <p:spPr>
          <a:xfrm>
            <a:off x="304920" y="250920"/>
            <a:ext cx="84168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rebuchet MS"/>
              </a:rPr>
              <a:t>Student Cente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A2E2-B78D-42ED-A8C7-D8378B816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0" y="1063800"/>
            <a:ext cx="9144000" cy="579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833400"/>
          <a:ext cx="9075600" cy="5830920"/>
        </p:xfrm>
        <a:graphic>
          <a:graphicData uri="http://schemas.openxmlformats.org/drawingml/2006/table">
            <a:tbl>
              <a:tblPr/>
              <a:tblGrid>
                <a:gridCol w="1022400"/>
                <a:gridCol w="1089000"/>
                <a:gridCol w="1182600"/>
                <a:gridCol w="4411800"/>
                <a:gridCol w="1369800"/>
              </a:tblGrid>
              <a:tr h="564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Vi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7e5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Area of Foc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7e5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Su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Metr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7e5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Commitments to 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7e5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7e5"/>
                    </a:solidFill>
                  </a:tcPr>
                </a:tc>
              </a:tr>
              <a:tr h="17517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c0504d"/>
                          </a:solidFill>
                          <a:latin typeface="Verdana"/>
                        </a:rPr>
                        <a:t>Transform college image and enhance Partnerships with community, business, and educational  institutions.</a:t>
                      </a:r>
                      <a:r>
                        <a:rPr b="0" i="1" lang="en-US" sz="1600" spc="-1" strike="noStrike">
                          <a:solidFill>
                            <a:srgbClr val="0000cc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rease Visi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crease community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articipation by 25%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stablish baseline data for community participation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duct faculty &amp; staff survey to assess degree of community involvement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velop and support a comprehensive and fully integrated marketing plan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ire and provide support to a full time webmaste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reate an EVC information section in the </a:t>
                      </a:r>
                      <a:r>
                        <a:rPr b="0" lang="en-US" sz="9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  <a:ea typeface="Times New Roman"/>
                        </a:rPr>
                        <a:t>Evergreen Times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The Villager &amp; local high school newspapers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crease community participation in (regularly scheduled) campus events and advisory boa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le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le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le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le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velop Strategic Partner-shi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reate 8-10 new joi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artnershi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pand strategic partnerships with major industry clusters, Economic Development Agencies and the region’s Small Business Development Cente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itiate 3 new K-12 vocational  ed. partnership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dentify partners for University Center at EV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artner with religious &amp; community organizations to develop offsite educational programs and services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egotiate with VTA regarding adequate/improved bus service and direct routes for EVC students 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/No Progress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ing College to the Commun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stablish 3-5 new off-site services &amp; progra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(2-3 targeted to immigrant population)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nduct community needs assessment survey by population segments to include senior homes, churches, 40+, immigrant groups, lifelong learner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aunch offsite classes - credit/no credit offerings (@senior centers, high schools, community centers, churches, etc.) and establish locations to offer offsite registration and college services.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Rectangle 28"/>
          <p:cNvSpPr/>
          <p:nvPr/>
        </p:nvSpPr>
        <p:spPr>
          <a:xfrm>
            <a:off x="201600" y="147600"/>
            <a:ext cx="841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rebuchet MS"/>
              </a:rPr>
              <a:t>Community Eng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3696-97B3-4722-91BC-2E9F61AC32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-282600" y="0"/>
            <a:ext cx="9694800" cy="684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28600" y="104760"/>
            <a:ext cx="84168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rebuchet MS"/>
              </a:rPr>
              <a:t>Organizational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ans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644400"/>
          <a:ext cx="9144000" cy="5943600"/>
        </p:xfrm>
        <a:graphic>
          <a:graphicData uri="http://schemas.openxmlformats.org/drawingml/2006/table">
            <a:tbl>
              <a:tblPr/>
              <a:tblGrid>
                <a:gridCol w="1130400"/>
                <a:gridCol w="1241280"/>
                <a:gridCol w="1173240"/>
                <a:gridCol w="4419720"/>
                <a:gridCol w="1179360"/>
              </a:tblGrid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Vi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7e5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Area of Foc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7e5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Success Metr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7e5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Commitment to 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7e5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33"/>
                          </a:solidFill>
                          <a:latin typeface="Verdana"/>
                        </a:rPr>
                        <a:t>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97e5"/>
                    </a:solidFill>
                  </a:tcPr>
                </a:tc>
              </a:tr>
              <a:tr h="253296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c0504d"/>
                          </a:solidFill>
                          <a:latin typeface="Verdana"/>
                        </a:rPr>
                        <a:t>Create a trusting environment whe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c0504d"/>
                          </a:solidFill>
                          <a:latin typeface="Verdana"/>
                        </a:rPr>
                        <a:t>everyone is valued and empowered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ild Commun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rease employee participation in college-wide activities 5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rease successful resolution of complaints 5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unication outlets will increase by 5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vide an annual employee survey to measure satisfaction, needs, and climate in order to have a baseline and measure progr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and schedule of events during work hours including multicultural &amp; community building even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ate regular employee/family campus even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ntify options to support employees resolving issues before grievance &amp; formal complaints (example: Campus Conciliation Team)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velop communications tools to increase outlets, such as student newspaper, website, IM, employee/student portal, handbooks/manual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opt Diversity Action Council guidelines as Campus Communications Guidelines and introduce them to all campus organizations, employees, and studen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ployee Development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rease employee participation 5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rease opportunities for employee professional growth &amp; recognition 5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ablish employee participation/opportunity baselin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inue offering ongoing training and evaluate and initiate new training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cure &amp; allocate staff development funding within the college budge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vide incentives and access to employees to participate in staff development opportuniti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and employee recognition program to include professional and community award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lement a leadership program open to all employees who wish to participat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le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arent Infra-struc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rease access to clearly written policies &amp; procedures 25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Employee survey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duct audit of policies and procedures to evaluate and prioritize areas for developmen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ge wide communication at all points of decision making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lement open resource allocation proces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Progr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6:06:21Z</dcterms:created>
  <dc:creator>promano</dc:creator>
  <dc:description/>
  <dc:language>en-US</dc:language>
  <cp:lastModifiedBy>Rita De La Cerda</cp:lastModifiedBy>
  <dcterms:modified xsi:type="dcterms:W3CDTF">2009-03-31T16:01:50Z</dcterms:modified>
  <cp:revision>2</cp:revision>
  <dc:subject/>
  <dc:title>C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axCatchAll">
    <vt:lpwstr>34;#IEC and Program Review|74305206-45d7-4827-ac5c-55b5d7eef816;#1;#EVC|e0724e3f-4a3d-444b-9655-a7b246ec0a0d</vt:lpwstr>
  </property>
  <property fmtid="{D5CDD505-2E9C-101B-9397-08002B2CF9AE}" pid="3" name="k60e436164b54aa196d27635423c1081">
    <vt:lpwstr>EVC|e0724e3f-4a3d-444b-9655-a7b246ec0a0d</vt:lpwstr>
  </property>
  <property fmtid="{D5CDD505-2E9C-101B-9397-08002B2CF9AE}" pid="4" name="kc6110bfc9ef43d3aa85f9287f399c79">
    <vt:lpwstr>IEC and Program Review|74305206-45d7-4827-ac5c-55b5d7eef816</vt:lpwstr>
  </property>
  <property fmtid="{D5CDD505-2E9C-101B-9397-08002B2CF9AE}" pid="5" name="sjeccdEntity">
    <vt:lpwstr>1;#EVC|e0724e3f-4a3d-444b-9655-a7b246ec0a0d</vt:lpwstr>
  </property>
  <property fmtid="{D5CDD505-2E9C-101B-9397-08002B2CF9AE}" pid="6" name="sjeccdGroup">
    <vt:lpwstr>2008-2009 Program Review</vt:lpwstr>
  </property>
  <property fmtid="{D5CDD505-2E9C-101B-9397-08002B2CF9AE}" pid="7" name="sjeccdShowOn">
    <vt:lpwstr>34;#IEC and Program Review|74305206-45d7-4827-ac5c-55b5d7eef816</vt:lpwstr>
  </property>
</Properties>
</file>